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0AEA9-561E-4FDD-B05B-664453A4A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C2929-51E2-4AC4-85D9-52583D15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6020B-B4E4-4D93-AB12-40EAC53C8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139EC-BD10-4B7C-8748-5DD9704C4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6C9C8-7A95-4781-AA7A-8D0925486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50B0B-11F5-404D-9E67-C98D28FDC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81323-C071-4A61-9F29-AC92CC55B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BA640-F9F6-43E9-A449-8365FE8F5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5BA24-A3E5-42D3-BB76-74C40966C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BC6F5-338E-4D2C-B0F9-47D777529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B7B42-00D6-4983-A881-E8B2129BF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ABE0-EBE3-4573-8E1C-DA6CDF116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64D73-FA2B-4323-A3DD-8403B30A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5FFB1-84DA-4601-AB9E-7A2537186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45812-BE1D-41E2-A987-99FC65934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10FEA-2FC8-42B6-8057-4603CF695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ADB3B-5C4D-49FA-B243-59363B54F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65C23-A9FB-4E19-9D2C-CBB576E6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568F8-5749-4584-9C1E-411F0B60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3BF77-4C58-4486-B29B-366D02E0A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7D4DD-F590-46D4-A13D-29FA92A0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0E78-FF85-4EF3-97D8-893C603F0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A094-E961-439E-B1DD-87EED1153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7A32-A42E-4B7E-93D2-4D0ACE704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91B8-13DD-46CB-A4A9-5F887FA62C22}"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A1B3-B38B-476E-8FCB-CBBB3881AC47}"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Troubleshooting Common Printer Issues for PC</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 (continued)</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If the lights are blinking, then it is connected properly. Check the printer’s network setup menu to see if the printer is getting an IP address.  If yes, copy down the IP address and proceed to the computer to configure the printer port.  Make sure the computer is connected to the network. On the computer, you would follow the following steps to configure the printer port:</a:t>
            </a:r>
            <a:endParaRPr b="0" lang="en-US" sz="1800" spc="-1" strike="noStrike">
              <a:solidFill>
                <a:srgbClr val="212164"/>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START -&gt; PRINTERS AND FAXES</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RIGHT CLICK ON THE CORRECT PRINTER -&gt; CLICK </a:t>
            </a:r>
            <a:r>
              <a:rPr b="0" i="1" lang="en-US" sz="1000" spc="-1" strike="noStrike">
                <a:solidFill>
                  <a:srgbClr val="212164"/>
                </a:solidFill>
                <a:latin typeface="Arial"/>
              </a:rPr>
              <a:t>Properties -&gt; </a:t>
            </a:r>
            <a:r>
              <a:rPr b="0" lang="en-US" sz="1000" spc="-1" strike="noStrike">
                <a:solidFill>
                  <a:srgbClr val="212164"/>
                </a:solidFill>
                <a:latin typeface="Arial"/>
              </a:rPr>
              <a:t>CLICK </a:t>
            </a:r>
            <a:r>
              <a:rPr b="0" i="1" lang="en-US" sz="1000" spc="-1" strike="noStrike">
                <a:solidFill>
                  <a:srgbClr val="212164"/>
                </a:solidFill>
                <a:latin typeface="Arial"/>
              </a:rPr>
              <a:t>Ports</a:t>
            </a:r>
            <a:r>
              <a:rPr b="0" lang="en-US" sz="1000" spc="-1" strike="noStrike">
                <a:solidFill>
                  <a:srgbClr val="212164"/>
                </a:solidFill>
                <a:latin typeface="Arial"/>
              </a:rPr>
              <a:t> TAB</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Locate the port settings that were originally setup when installing the printer</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CLICK </a:t>
            </a:r>
            <a:r>
              <a:rPr b="0" i="1" lang="en-US" sz="1000" spc="-1" strike="noStrike">
                <a:solidFill>
                  <a:srgbClr val="212164"/>
                </a:solidFill>
                <a:latin typeface="Arial"/>
              </a:rPr>
              <a:t>Configure Port </a:t>
            </a:r>
            <a:r>
              <a:rPr b="0" lang="en-US" sz="1000" spc="-1" strike="noStrike">
                <a:solidFill>
                  <a:srgbClr val="212164"/>
                </a:solidFill>
                <a:latin typeface="Arial"/>
              </a:rPr>
              <a:t>and see if the IP address matches the one from the printer</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If it does not, type in the IP address from the printer</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CLICK </a:t>
            </a:r>
            <a:r>
              <a:rPr b="0" i="1" lang="en-US" sz="1000" spc="-1" strike="noStrike">
                <a:solidFill>
                  <a:srgbClr val="212164"/>
                </a:solidFill>
                <a:latin typeface="Arial"/>
              </a:rPr>
              <a:t>OK</a:t>
            </a:r>
            <a:endParaRPr b="0" lang="en-US" sz="1000" spc="-1" strike="noStrike">
              <a:solidFill>
                <a:srgbClr val="212164"/>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Attempt to print out a test page using the </a:t>
            </a:r>
            <a:r>
              <a:rPr b="0" i="1" lang="en-US" sz="1800" spc="-1" strike="noStrike">
                <a:solidFill>
                  <a:srgbClr val="212164"/>
                </a:solidFill>
                <a:latin typeface="Arial"/>
              </a:rPr>
              <a:t>print test page </a:t>
            </a:r>
            <a:r>
              <a:rPr b="0" lang="en-US" sz="1800" spc="-1" strike="noStrike">
                <a:solidFill>
                  <a:srgbClr val="212164"/>
                </a:solidFill>
                <a:latin typeface="Arial"/>
              </a:rPr>
              <a:t> in the </a:t>
            </a:r>
            <a:r>
              <a:rPr b="0" i="1" lang="en-US" sz="1800" spc="-1" strike="noStrike">
                <a:solidFill>
                  <a:srgbClr val="212164"/>
                </a:solidFill>
                <a:latin typeface="Arial"/>
              </a:rPr>
              <a:t>General</a:t>
            </a:r>
            <a:r>
              <a:rPr b="0" lang="en-US" sz="1800" spc="-1" strike="noStrike">
                <a:solidFill>
                  <a:srgbClr val="212164"/>
                </a:solidFill>
                <a:latin typeface="Arial"/>
              </a:rPr>
              <a:t> tab. If it still doesn’t printer refer it to the technology administrator.</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the Tech Team identify what they observe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them tell you what they found difficul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llow them let you know if they think there is a better way in resolving the problem.</a:t>
            </a:r>
            <a:endParaRPr b="0" lang="en-US" sz="3200" spc="-1" strike="noStrike">
              <a:solidFill>
                <a:srgbClr val="212164"/>
              </a:solidFill>
              <a:latin typeface="Arial"/>
            </a:endParaRPr>
          </a:p>
        </p:txBody>
      </p:sp>
      <p:sp>
        <p:nvSpPr>
          <p:cNvPr id="11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5"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common printer issue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you resolve these issues?</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 this lesson, we will focus on how to identify common printer issues for PC and how to resolve them. The instructions for troubleshooting are specifically written for the Lexmark printers used in the DOE environment. For other printers, please refer to the manufacturer’s user guide.</a:t>
            </a:r>
            <a:endParaRPr b="0" lang="en-US" sz="24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will practice how to identify and resolve these problem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e first step in resolving printing issues is to identify the problem(s).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the printer’s power cable is plugged in.</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the CAT 5 cable (looks like a phone jack) is plugged in.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if the paper tray is filled.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if any error messages are showing on the printer screen and/or the computer screen.</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e most common problems are either paper jams or connectivity problems.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o correct paper jams, the Tech Team has to check four different locations on the printer.  First, pull out the paper tray to check if paper is stuck in the feeder.  Second, pull out the ink cartridge and see if any paper is caught in the rollers inside the printer.  Third, open the panel on the back of the printer to see if any paper is stuck there. Finally, see if the paper getting caught when it is coming out of the printer. If the answer is yes to any of these locations, pull out the paper gently.</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r connectivity problems, make sure the printer is correctly plugged in (both power and Cat 5).</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the wireless switch is pushed forward on the laptop in order to pick up the wireless connection.</a:t>
            </a:r>
            <a:endParaRPr b="0" lang="en-US" sz="2000" spc="-1" strike="noStrike">
              <a:solidFill>
                <a:srgbClr val="21216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s lesson will give the Tech Team the skills to assist teachers and other students in resolving common printer issues.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Paper Jams – students will proceed to a printer that is currently functioning properly, look at the locations where the paper jam may occur, and note how a properly functioning printer to should look like.  When they encounter a printer that has a paper jam, they will attempt to identify any deviations from what they saw on a working printer.  They can then attempt correct any deviations to prevent future paper jams.</a:t>
            </a:r>
            <a:endParaRPr b="0" lang="en-US" sz="2000" spc="-1" strike="noStrike">
              <a:solidFill>
                <a:srgbClr val="212164"/>
              </a:solidFill>
              <a:latin typeface="Arial"/>
            </a:endParaRPr>
          </a:p>
          <a:p>
            <a:pPr marL="609480" indent="-6094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onnectivity Problems – there are times where a printer won’t print because the printer or the computer is not connected properly to the network. The students will check if the printer is connected properly to the data drop in the classroom.  Then, they will check if the network card lights are blinking.</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E</cp:lastModifiedBy>
  <dcterms:modified xsi:type="dcterms:W3CDTF">2008-10-28T16:14:58Z</dcterms:modified>
  <cp:revision>13</cp:revision>
  <dc:subject/>
  <dc:title>Workshop Title</dc:title>
</cp:coreProperties>
</file>